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029-19E0-4AF0-808A-91BC367A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34B-CAFF-4CB4-96F6-13949E0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4D1-610E-440C-8799-BBD48E47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68B-ABD3-4E06-8FFC-7277212D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5F9-FD80-441C-A43E-000B1AD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BF9-983A-4757-AFF7-40BBFDC9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A61-01DA-4909-894C-6FEFC2E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158-3D6A-43A4-96E6-D5375CCD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C3A-A1E8-4D32-AA7D-92412D0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310-745C-4AA9-BDE8-CE9B540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6AD-4F92-48BC-BE7C-AFD5393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1A5-955D-4CD9-B2DD-392ADBD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F02C-FB33-4756-BE41-3AE70F0F9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dventure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at is an adventure story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haracteristics of an Adventure Story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ero or hero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s noble, brave and courage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s intellig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s a risk tak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Saves the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haracteristics of an Adventure Story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During the journ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hero/heroine is solving a mystery or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hero/heroine could travel to or through forests, mountains, valleys, deserts, ocean, museum, cities or even a junky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t is always a realistic set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hero/heroine can travel by horse, walking, bus, car, ship or even a plane.  The transportation is always real.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haracteristics of an Adventure Story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onflict/Probl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Can happen in several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nvolves someone being missing or l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Finds an answer to a specific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nvolves conflict with nature:  survival in the wilder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Involves conflict with self:  fighting a f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haracteristics of an Adventure Story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n the resolution to the problem, the main charac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Learns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Most often changes for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Can survive many dangers or learn to respect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Learns to appreciate his/her life as it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Can overcome certain fears or feelings about him/he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31:35Z</dcterms:created>
  <dc:creator>AAPS</dc:creator>
  <dc:description/>
  <dc:language>en-US</dc:language>
  <cp:lastModifiedBy>Carrie Dworkin</cp:lastModifiedBy>
  <dcterms:modified xsi:type="dcterms:W3CDTF">2005-08-11T12:43:55Z</dcterms:modified>
  <cp:revision>4</cp:revision>
  <dc:subject/>
  <dc:title>Adventure </dc:title>
</cp:coreProperties>
</file>